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1562-C805-4D07-A7B9-5269BEDA5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0800" y="37908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540160"/>
            <a:ext cx="582912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458680"/>
            <a:ext cx="582912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0EB6-63A2-4A22-8EC1-AA42ACB9B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0800" y="37908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540160"/>
            <a:ext cx="284436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540160"/>
            <a:ext cx="284436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458680"/>
            <a:ext cx="284436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458680"/>
            <a:ext cx="284436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E113-F850-4103-934C-9ED4CABD9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0800" y="37908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540160"/>
            <a:ext cx="187668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540160"/>
            <a:ext cx="187668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540160"/>
            <a:ext cx="187668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458680"/>
            <a:ext cx="187668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458680"/>
            <a:ext cx="187668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458680"/>
            <a:ext cx="187668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13FB-FC5E-4908-818A-1BFEA5247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038F7-DAEF-48C1-AAD0-F7CA247A8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0800" y="37908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14440" y="2540160"/>
            <a:ext cx="5829120" cy="55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3FB5D-72AD-4EE3-ADE4-FEFEFDFC0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0800" y="37908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14440" y="2540160"/>
            <a:ext cx="58291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F10B1-3B57-4792-9CD9-370457CAF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0800" y="37908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14440" y="2540160"/>
            <a:ext cx="284436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01360" y="2540160"/>
            <a:ext cx="284436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A01A9-3208-4B97-B66F-2ECEAA7A2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0800" y="37908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0E87F-764C-4957-BA28-82EEE2D48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0800" y="37908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63B27-E51A-4150-B725-B6642C069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0800" y="37908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14440" y="2540160"/>
            <a:ext cx="284436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01360" y="2540160"/>
            <a:ext cx="284436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4440" y="5458680"/>
            <a:ext cx="284436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81B96-CFE5-470F-BB20-B04FDA97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0800" y="37908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540160"/>
            <a:ext cx="5829120" cy="55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B32C-79BD-45B0-AFAA-927A0A3F5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0800" y="37908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4440" y="2540160"/>
            <a:ext cx="284436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01360" y="2540160"/>
            <a:ext cx="284436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501360" y="5458680"/>
            <a:ext cx="284436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019F9-2BB0-4C42-87D4-B401E81F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0800" y="37908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4440" y="2540160"/>
            <a:ext cx="284436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01360" y="2540160"/>
            <a:ext cx="284436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4440" y="5458680"/>
            <a:ext cx="582912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10B2A-C558-443D-81DA-E2234C01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0800" y="37908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14440" y="2540160"/>
            <a:ext cx="582912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4440" y="5458680"/>
            <a:ext cx="582912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EA020-2613-428B-9F74-C4F6670ED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0800" y="37908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14440" y="2540160"/>
            <a:ext cx="284436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01360" y="2540160"/>
            <a:ext cx="284436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4440" y="5458680"/>
            <a:ext cx="284436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501360" y="5458680"/>
            <a:ext cx="284436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51C97-8024-42EC-B32C-D697AAB57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0800" y="37908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14440" y="2540160"/>
            <a:ext cx="187668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485440" y="2540160"/>
            <a:ext cx="187668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456080" y="2540160"/>
            <a:ext cx="187668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4440" y="5458680"/>
            <a:ext cx="187668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485440" y="5458680"/>
            <a:ext cx="187668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4456080" y="5458680"/>
            <a:ext cx="187668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30014-B74A-496D-A1A6-58309D8AB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0800" y="37908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540160"/>
            <a:ext cx="58291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761B-94FC-4FE2-8D82-93C899647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0800" y="37908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540160"/>
            <a:ext cx="284436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540160"/>
            <a:ext cx="284436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B59D-8502-4DAC-889C-454697236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0800" y="37908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CF68-B7D5-4D9B-AE4A-C9E2298DC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0800" y="37908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394E-C505-423A-BAEF-6188FDEF9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0800" y="37908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540160"/>
            <a:ext cx="284436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540160"/>
            <a:ext cx="284436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458680"/>
            <a:ext cx="284436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DA2B-14C0-40C6-8349-0863F7BB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0800" y="37908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540160"/>
            <a:ext cx="284436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540160"/>
            <a:ext cx="284436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458680"/>
            <a:ext cx="284436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CD27-EAAF-4CD3-A527-F2EAA4F1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0800" y="37908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540160"/>
            <a:ext cx="284436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540160"/>
            <a:ext cx="284436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458680"/>
            <a:ext cx="582912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074C-740B-4A68-9664-15C5AABE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4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20800" y="37908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62480" y="8331120"/>
            <a:ext cx="399960" cy="81288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0CB24-EADA-417F-9E57-466098AF4CE8}" type="slidenum">
              <a:rPr b="0" lang="cs-CZ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4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3600" y="2065320"/>
            <a:ext cx="6118200" cy="225252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Arial Narrow"/>
            </a:endParaRPr>
          </a:p>
        </p:txBody>
      </p:sp>
      <p:sp>
        <p:nvSpPr>
          <p:cNvPr id="42" name=""/>
          <p:cNvSpPr/>
          <p:nvPr/>
        </p:nvSpPr>
        <p:spPr>
          <a:xfrm>
            <a:off x="171360" y="4275000"/>
            <a:ext cx="6515280" cy="104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Arial Narrow"/>
            </a:endParaRPr>
          </a:p>
        </p:txBody>
      </p:sp>
      <p:sp>
        <p:nvSpPr>
          <p:cNvPr id="43" name=""/>
          <p:cNvSpPr/>
          <p:nvPr/>
        </p:nvSpPr>
        <p:spPr>
          <a:xfrm>
            <a:off x="171360" y="1976400"/>
            <a:ext cx="6515280" cy="104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Arial Narrow"/>
            </a:endParaRPr>
          </a:p>
        </p:txBody>
      </p:sp>
      <p:sp>
        <p:nvSpPr>
          <p:cNvPr id="44" name=""/>
          <p:cNvSpPr/>
          <p:nvPr/>
        </p:nvSpPr>
        <p:spPr>
          <a:xfrm>
            <a:off x="6467400" y="1662120"/>
            <a:ext cx="58680" cy="2979720"/>
          </a:xfrm>
          <a:custGeom>
            <a:avLst/>
            <a:gdLst>
              <a:gd name="textAreaLeft" fmla="*/ 8640 w 58680"/>
              <a:gd name="textAreaRight" fmla="*/ 50040 w 58680"/>
              <a:gd name="textAreaTop" fmla="*/ 8640 h 2979720"/>
              <a:gd name="textAreaBottom" fmla="*/ 2971080 h 2979720"/>
            </a:gdLst>
            <a:ahLst/>
            <a:rect l="textAreaLeft" t="textAreaTop" r="textAreaRight" b="textAreaBottom"/>
            <a:pathLst>
              <a:path w="21600" h="1090273">
                <a:moveTo>
                  <a:pt x="10800" y="0"/>
                </a:moveTo>
                <a:arcTo wR="10800" hR="10800" stAng="16200000" swAng="-5400000"/>
                <a:lnTo>
                  <a:pt x="0" y="1079473"/>
                </a:lnTo>
                <a:arcTo wR="10800" hR="10800" stAng="10800000" swAng="-5400000"/>
                <a:lnTo>
                  <a:pt x="10800" y="1090273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Arial Narrow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1670040"/>
            <a:ext cx="57240" cy="2979720"/>
          </a:xfrm>
          <a:custGeom>
            <a:avLst/>
            <a:gdLst>
              <a:gd name="textAreaLeft" fmla="*/ 8280 w 57240"/>
              <a:gd name="textAreaRight" fmla="*/ 48960 w 57240"/>
              <a:gd name="textAreaTop" fmla="*/ 8280 h 2979720"/>
              <a:gd name="textAreaBottom" fmla="*/ 2971440 h 2979720"/>
            </a:gdLst>
            <a:ahLst/>
            <a:rect l="textAreaLeft" t="textAreaTop" r="textAreaRight" b="textAreaBottom"/>
            <a:pathLst>
              <a:path w="21600" h="1117530">
                <a:moveTo>
                  <a:pt x="10800" y="0"/>
                </a:moveTo>
                <a:arcTo wR="10800" hR="10800" stAng="16200000" swAng="-5400000"/>
                <a:lnTo>
                  <a:pt x="0" y="1106730"/>
                </a:lnTo>
                <a:arcTo wR="10800" hR="10800" stAng="10800000" swAng="-5400000"/>
                <a:lnTo>
                  <a:pt x="10800" y="111753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Arial Narrow"/>
            </a:endParaRPr>
          </a:p>
        </p:txBody>
      </p:sp>
      <p:sp>
        <p:nvSpPr>
          <p:cNvPr id="46" name=""/>
          <p:cNvSpPr/>
          <p:nvPr/>
        </p:nvSpPr>
        <p:spPr>
          <a:xfrm>
            <a:off x="2122560" y="7710480"/>
            <a:ext cx="2611440" cy="104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Arial Narrow"/>
            </a:endParaRPr>
          </a:p>
        </p:txBody>
      </p:sp>
      <p:sp>
        <p:nvSpPr>
          <p:cNvPr id="47" name=""/>
          <p:cNvSpPr/>
          <p:nvPr/>
        </p:nvSpPr>
        <p:spPr>
          <a:xfrm>
            <a:off x="3071880" y="7645320"/>
            <a:ext cx="712800" cy="235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Arial Narrow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4440" y="2336400"/>
            <a:ext cx="5829120" cy="1523880"/>
          </a:xfrm>
          <a:prstGeom prst="rect">
            <a:avLst/>
          </a:prstGeom>
          <a:blipFill rotWithShape="0">
            <a:blip r:embed="rId4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C2168-9541-4B11-9346-8E6D69B1A70D}" type="slidenum">
              <a:rPr b="0" lang="cs-CZ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0" y="8001000"/>
          <a:ext cx="114300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001000"/>
                    <a:ext cx="11430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0" y="1557360"/>
            <a:ext cx="6858000" cy="31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264c"/>
                </a:solidFill>
                <a:latin typeface="Times New Roman"/>
              </a:rPr>
              <a:t>ÚZEMNÍ ENERGETICKÁ KONCEPCE </a:t>
            </a:r>
            <a:endParaRPr b="0" lang="en-US" sz="3200" spc="-1" strike="noStrike">
              <a:solidFill>
                <a:srgbClr val="00264c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264c"/>
                </a:solidFill>
                <a:latin typeface="Times New Roman"/>
              </a:rPr>
              <a:t>OLOMOUCKÉHO KRAJE</a:t>
            </a:r>
            <a:endParaRPr b="0" lang="en-US" sz="3200" spc="-1" strike="noStrike">
              <a:solidFill>
                <a:srgbClr val="00264c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64c"/>
                </a:solidFill>
                <a:latin typeface="Times New Roman"/>
              </a:rPr>
              <a:t>(mikroregiony)</a:t>
            </a:r>
            <a:endParaRPr b="0" lang="en-US" sz="2800" spc="-1" strike="noStrike">
              <a:solidFill>
                <a:srgbClr val="00264c"/>
              </a:solidFill>
              <a:latin typeface="Arial Narrow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795348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b2b2b2"/>
                </a:solidFill>
                <a:latin typeface="Times New Roman"/>
              </a:rPr>
              <a:t>CITYPLAN spol. s r.o. Odborů 4, 120 00 Praha 2 tel.:224 922 989             fax: 224 922 072</a:t>
            </a:r>
            <a:endParaRPr b="0" lang="en-US" sz="1800" spc="-1" strike="noStrike">
              <a:solidFill>
                <a:srgbClr val="00264c"/>
              </a:solidFill>
              <a:latin typeface="Arial Narrow"/>
            </a:endParaRPr>
          </a:p>
        </p:txBody>
      </p:sp>
      <p:sp>
        <p:nvSpPr>
          <p:cNvPr id="92" name=""/>
          <p:cNvSpPr/>
          <p:nvPr/>
        </p:nvSpPr>
        <p:spPr>
          <a:xfrm>
            <a:off x="876240" y="5334120"/>
            <a:ext cx="51055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 u="sng">
                <a:solidFill>
                  <a:srgbClr val="00264c"/>
                </a:solidFill>
                <a:uFillTx/>
                <a:latin typeface="Times New Roman"/>
              </a:rPr>
              <a:t>Zpracováno pro:</a:t>
            </a:r>
            <a:r>
              <a:rPr b="0" lang="cs-CZ" sz="24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264c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64c"/>
                </a:solidFill>
                <a:latin typeface="Times New Roman"/>
              </a:rPr>
              <a:t>Olomoucký kraj</a:t>
            </a:r>
            <a:endParaRPr b="0" lang="en-US" sz="2000" spc="-1" strike="noStrike">
              <a:solidFill>
                <a:srgbClr val="00264c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64c"/>
                </a:solidFill>
                <a:latin typeface="Times New Roman"/>
              </a:rPr>
              <a:t>Jeremenkova 40a</a:t>
            </a:r>
            <a:endParaRPr b="0" lang="en-US" sz="2000" spc="-1" strike="noStrike">
              <a:solidFill>
                <a:srgbClr val="00264c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64c"/>
                </a:solidFill>
                <a:latin typeface="Times New Roman"/>
              </a:rPr>
              <a:t>779 11 Olomouc</a:t>
            </a:r>
            <a:endParaRPr b="0" lang="en-US" sz="2000" spc="-1" strike="noStrike">
              <a:solidFill>
                <a:srgbClr val="00264c"/>
              </a:solidFill>
              <a:latin typeface="Arial Narrow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8018640"/>
            <a:ext cx="281952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00264c"/>
                </a:solidFill>
                <a:latin typeface="Times New Roman"/>
              </a:rPr>
              <a:t>ViP s.r.o.                                Lazarská 7, 110 00 Praha 1</a:t>
            </a:r>
            <a:endParaRPr b="0" lang="en-US" sz="1400" spc="-1" strike="noStrike">
              <a:solidFill>
                <a:srgbClr val="00264c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00264c"/>
                </a:solidFill>
                <a:latin typeface="Times New Roman"/>
              </a:rPr>
              <a:t>REA Kladno, s.r.o.           Ocelárenská 1777, 272 01 KLadno</a:t>
            </a:r>
            <a:endParaRPr b="0" lang="en-US" sz="1400" spc="-1" strike="noStrike">
              <a:solidFill>
                <a:srgbClr val="00264c"/>
              </a:solidFill>
              <a:latin typeface="Arial Narrow"/>
            </a:endParaRPr>
          </a:p>
        </p:txBody>
      </p:sp>
      <p:sp>
        <p:nvSpPr>
          <p:cNvPr id="94" name=""/>
          <p:cNvSpPr/>
          <p:nvPr/>
        </p:nvSpPr>
        <p:spPr>
          <a:xfrm>
            <a:off x="2590920" y="71629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00264c"/>
                </a:solidFill>
                <a:uFillTx/>
                <a:latin typeface="Times New Roman"/>
              </a:rPr>
              <a:t>Zpracovatelé:</a:t>
            </a:r>
            <a:endParaRPr b="0" lang="en-US" sz="2000" spc="-1" strike="noStrike">
              <a:solidFill>
                <a:srgbClr val="00264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1T09:34:09Z</dcterms:created>
  <dc:creator>Jarka Machová</dc:creator>
  <dc:description/>
  <dc:language>en-US</dc:language>
  <cp:lastModifiedBy>Prichystal Aleš</cp:lastModifiedBy>
  <dcterms:modified xsi:type="dcterms:W3CDTF">2004-05-04T09:56:31Z</dcterms:modified>
  <cp:revision>83</cp:revision>
  <dc:subject/>
  <dc:title>                    CITYPLA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wner">
    <vt:lpwstr/>
  </property>
  <property fmtid="{D5CDD505-2E9C-101B-9397-08002B2CF9AE}" pid="3" name="SPSDescription">
    <vt:lpwstr/>
  </property>
  <property fmtid="{D5CDD505-2E9C-101B-9397-08002B2CF9AE}" pid="4" name="Status">
    <vt:lpwstr/>
  </property>
  <property fmtid="{D5CDD505-2E9C-101B-9397-08002B2CF9AE}" pid="5" name="_AdHocReviewCycleID">
    <vt:r8>-953489139</vt:r8>
  </property>
  <property fmtid="{D5CDD505-2E9C-101B-9397-08002B2CF9AE}" pid="6" name="_AuthorEmail">
    <vt:lpwstr>a.PRICHYSTAL@kr-olomoucky.cz</vt:lpwstr>
  </property>
  <property fmtid="{D5CDD505-2E9C-101B-9397-08002B2CF9AE}" pid="7" name="_AuthorEmailDisplayName">
    <vt:lpwstr>Přichystal Aleš</vt:lpwstr>
  </property>
  <property fmtid="{D5CDD505-2E9C-101B-9397-08002B2CF9AE}" pid="8" name="_EmailSubject">
    <vt:lpwstr>ÚEK</vt:lpwstr>
  </property>
</Properties>
</file>