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194-7105-44E1-8C07-026AE82F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885-6C9C-41F7-966A-5CB41C3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B88-D34C-4555-8227-19411176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076-B554-48D8-8572-F5EAD5EB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4CBD-3667-418F-A074-402A4902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315-BDD8-4149-BF05-BE72E24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2AB-F304-41B4-A636-019E233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6DEE-0244-4963-9AA7-5BB12D9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7C67-318A-492A-9E93-ABCA1292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6B1C-74DD-4123-9E05-1C589190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04FB-7CAD-479D-AE03-87AE4BE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D87-217D-4B26-84C5-C2337801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23CA-D911-4ED6-A508-46EEA4F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37A-A913-4399-A8FA-19EC2F0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3721-DBC1-465E-9353-471D217D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585-3401-4FF3-90E8-9200BD6B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48544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456080" y="5458680"/>
            <a:ext cx="187668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514-6657-4E3A-B54B-9E94EB1F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8DB-87BB-4DB1-AAAD-EA627B1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920-3707-41B8-AD70-B721862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C2C-246D-4B18-90EB-08843E8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0800" y="37908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692-14DF-48B4-9760-0432485D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AEE-CBA8-476E-944C-196090B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45868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026-9923-4328-A068-9C8FAC4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458680"/>
            <a:ext cx="582912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1E3-169B-4755-A343-CF8E33D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daf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62480" y="8331120"/>
            <a:ext cx="399960" cy="812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F775-5943-431E-8C0B-8C76E5B22324}" type="slidenum">
              <a:rPr b="0" lang="cs-CZ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daf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146"/>
          <p:cNvSpPr/>
          <p:nvPr/>
        </p:nvSpPr>
        <p:spPr>
          <a:xfrm>
            <a:off x="363600" y="2065320"/>
            <a:ext cx="6118200" cy="22525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AutoShape 6147"/>
          <p:cNvSpPr/>
          <p:nvPr/>
        </p:nvSpPr>
        <p:spPr>
          <a:xfrm>
            <a:off x="171360" y="42750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AutoShape 6148"/>
          <p:cNvSpPr/>
          <p:nvPr/>
        </p:nvSpPr>
        <p:spPr>
          <a:xfrm>
            <a:off x="171360" y="1976400"/>
            <a:ext cx="651528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AutoShape 6149"/>
          <p:cNvSpPr/>
          <p:nvPr/>
        </p:nvSpPr>
        <p:spPr>
          <a:xfrm>
            <a:off x="6467400" y="1662120"/>
            <a:ext cx="58680" cy="2979720"/>
          </a:xfrm>
          <a:custGeom>
            <a:avLst/>
            <a:gdLst>
              <a:gd name="textAreaLeft" fmla="*/ 8640 w 58680"/>
              <a:gd name="textAreaRight" fmla="*/ 50040 w 58680"/>
              <a:gd name="textAreaTop" fmla="*/ 8640 h 2979720"/>
              <a:gd name="textAreaBottom" fmla="*/ 2971080 h 2979720"/>
            </a:gdLst>
            <a:ahLst/>
            <a:rect l="textAreaLeft" t="textAreaTop" r="textAreaRight" b="textAreaBottom"/>
            <a:pathLst>
              <a:path w="21600" h="1090273">
                <a:moveTo>
                  <a:pt x="10800" y="0"/>
                </a:moveTo>
                <a:arcTo wR="10800" hR="10800" stAng="16200000" swAng="-5400000"/>
                <a:lnTo>
                  <a:pt x="0" y="1079473"/>
                </a:lnTo>
                <a:arcTo wR="10800" hR="10800" stAng="10800000" swAng="-5400000"/>
                <a:lnTo>
                  <a:pt x="10800" y="10902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6150"/>
          <p:cNvSpPr/>
          <p:nvPr/>
        </p:nvSpPr>
        <p:spPr>
          <a:xfrm>
            <a:off x="326880" y="1670040"/>
            <a:ext cx="57240" cy="2979720"/>
          </a:xfrm>
          <a:custGeom>
            <a:avLst/>
            <a:gdLst>
              <a:gd name="textAreaLeft" fmla="*/ 8280 w 57240"/>
              <a:gd name="textAreaRight" fmla="*/ 48960 w 57240"/>
              <a:gd name="textAreaTop" fmla="*/ 8280 h 2979720"/>
              <a:gd name="textAreaBottom" fmla="*/ 2971440 h 2979720"/>
            </a:gdLst>
            <a:ahLst/>
            <a:rect l="textAreaLeft" t="textAreaTop" r="textAreaRight" b="textAreaBottom"/>
            <a:pathLst>
              <a:path w="21600" h="1117530">
                <a:moveTo>
                  <a:pt x="10800" y="0"/>
                </a:moveTo>
                <a:arcTo wR="10800" hR="10800" stAng="16200000" swAng="-5400000"/>
                <a:lnTo>
                  <a:pt x="0" y="1106730"/>
                </a:lnTo>
                <a:arcTo wR="10800" hR="10800" stAng="10800000" swAng="-5400000"/>
                <a:lnTo>
                  <a:pt x="10800" y="111753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6151"/>
          <p:cNvSpPr/>
          <p:nvPr/>
        </p:nvSpPr>
        <p:spPr>
          <a:xfrm>
            <a:off x="2122560" y="7710480"/>
            <a:ext cx="2611440" cy="104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Rectangle 6152"/>
          <p:cNvSpPr/>
          <p:nvPr/>
        </p:nvSpPr>
        <p:spPr>
          <a:xfrm>
            <a:off x="3071880" y="7645320"/>
            <a:ext cx="71280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0800" y="37908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E83-937E-47B2-B7C1-3C10A30773EF}" type="slidenum">
              <a:rPr b="0" lang="cs-CZ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10"/>
          <p:cNvGraphicFramePr/>
          <p:nvPr/>
        </p:nvGraphicFramePr>
        <p:xfrm>
          <a:off x="0" y="8001000"/>
          <a:ext cx="114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010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4"/>
          <p:cNvSpPr/>
          <p:nvPr/>
        </p:nvSpPr>
        <p:spPr>
          <a:xfrm>
            <a:off x="0" y="1557360"/>
            <a:ext cx="6858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ÚZEMNÍ ENERGETICKÁ KONCEPC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64c"/>
                </a:solidFill>
                <a:latin typeface="Times New Roman"/>
              </a:rPr>
              <a:t>OLOMOUCKÉHO KRAJ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64c"/>
                </a:solidFill>
                <a:latin typeface="Times New Roman"/>
              </a:rPr>
              <a:t>(mikroregiony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066680" y="7953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2b2b2"/>
                </a:solidFill>
                <a:latin typeface="Times New Roman"/>
              </a:rPr>
              <a:t>CITYPLAN spol. s r.o. Odborů 4, 120 00 Praha 2 tel.:224 922 989             fax: 224 922 072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876240" y="5334120"/>
            <a:ext cx="510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264c"/>
                </a:solidFill>
                <a:uFillTx/>
                <a:latin typeface="Times New Roman"/>
              </a:rPr>
              <a:t>Zpracováno pro:</a:t>
            </a:r>
            <a:r>
              <a:rPr b="0" lang="cs-CZ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Olomoucký kraj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Jeremenkova 40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64c"/>
                </a:solidFill>
                <a:latin typeface="Times New Roman"/>
              </a:rPr>
              <a:t>779 11 Olomou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886200" y="8018640"/>
            <a:ext cx="28195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ViP s.r.o.                                Lazarská 7, 110 00 Praha 1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264c"/>
                </a:solidFill>
                <a:latin typeface="Times New Roman"/>
              </a:rPr>
              <a:t>REA Kladno, s.r.o.           Ocelárenská 1777, 272 01 KLadno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590920" y="71629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264c"/>
                </a:solidFill>
                <a:uFillTx/>
                <a:latin typeface="Times New Roman"/>
              </a:rPr>
              <a:t>Zpracovatelé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9:34:09Z</dcterms:created>
  <dc:creator>Jarka Machová</dc:creator>
  <dc:description/>
  <dc:language>en-US</dc:language>
  <cp:lastModifiedBy>Sluková Dana</cp:lastModifiedBy>
  <dcterms:modified xsi:type="dcterms:W3CDTF">2011-07-07T08:02:27Z</dcterms:modified>
  <cp:revision>83</cp:revision>
  <dc:subject/>
  <dc:title>                    CITY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