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5B5-03B7-4272-971B-AB53E284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C0A-D110-4203-9F6B-2A77F397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479-8EF9-4780-A780-00BFBE56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CDE-950B-4136-ABFD-C62DF632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2576-1ACA-40A8-BFA9-EB660D11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D98B-B9A7-46DA-AD41-A99B42F3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92E9-58CC-4E72-A532-9F80E095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FB0D-FAB0-4017-8B9E-4B783B2E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AE5E-0DBB-42D4-BB0F-71521ED8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0800" y="37908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B383-44E7-4318-88B8-1FD8D2B5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64C1-601F-4E4B-82BC-8F012CE9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947-5F42-48C1-8CAD-191AA0A4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292D-E5CE-4D93-BB87-B3414EF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76C4-3120-45BC-8493-5EB79BDF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3837-A310-418E-8F4F-F3E289FF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EDE8-1360-460B-9606-F4ABB6BA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85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5608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85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45608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349D-768D-4290-97CB-2D91C97B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681-3807-489A-89BB-23CC9DA2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643-684D-40CE-A874-017C2813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000-2259-42EB-9FA4-5FF12266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0800" y="37908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A94-8FD1-4D01-AF8C-C6B07338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489-1F1B-483F-AD58-A6C46585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919-E0D5-4FA1-862A-E03AD2C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F55-6901-4C70-A433-8CCDC56B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4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62480" y="8331120"/>
            <a:ext cx="399960" cy="8128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925A-5C2B-4A60-AF55-53415A9DBEDE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4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0" y="2065320"/>
            <a:ext cx="6118200" cy="22525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2" name=""/>
          <p:cNvSpPr/>
          <p:nvPr/>
        </p:nvSpPr>
        <p:spPr>
          <a:xfrm>
            <a:off x="171360" y="4275000"/>
            <a:ext cx="6515280" cy="104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976400"/>
            <a:ext cx="6515280" cy="104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4" name=""/>
          <p:cNvSpPr/>
          <p:nvPr/>
        </p:nvSpPr>
        <p:spPr>
          <a:xfrm>
            <a:off x="6467400" y="1662120"/>
            <a:ext cx="58680" cy="2979720"/>
          </a:xfrm>
          <a:custGeom>
            <a:avLst/>
            <a:gdLst>
              <a:gd name="textAreaLeft" fmla="*/ 8640 w 58680"/>
              <a:gd name="textAreaRight" fmla="*/ 50040 w 58680"/>
              <a:gd name="textAreaTop" fmla="*/ 8640 h 2979720"/>
              <a:gd name="textAreaBottom" fmla="*/ 2971080 h 2979720"/>
            </a:gdLst>
            <a:ahLst/>
            <a:rect l="textAreaLeft" t="textAreaTop" r="textAreaRight" b="textAreaBottom"/>
            <a:pathLst>
              <a:path w="21600" h="1090273">
                <a:moveTo>
                  <a:pt x="10800" y="0"/>
                </a:moveTo>
                <a:arcTo wR="10800" hR="10800" stAng="16200000" swAng="-5400000"/>
                <a:lnTo>
                  <a:pt x="0" y="1079473"/>
                </a:lnTo>
                <a:arcTo wR="10800" hR="10800" stAng="10800000" swAng="-5400000"/>
                <a:lnTo>
                  <a:pt x="10800" y="109027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670040"/>
            <a:ext cx="57240" cy="2979720"/>
          </a:xfrm>
          <a:custGeom>
            <a:avLst/>
            <a:gdLst>
              <a:gd name="textAreaLeft" fmla="*/ 8280 w 57240"/>
              <a:gd name="textAreaRight" fmla="*/ 48960 w 57240"/>
              <a:gd name="textAreaTop" fmla="*/ 8280 h 2979720"/>
              <a:gd name="textAreaBottom" fmla="*/ 2971440 h 2979720"/>
            </a:gdLst>
            <a:ahLst/>
            <a:rect l="textAreaLeft" t="textAreaTop" r="textAreaRight" b="textAreaBottom"/>
            <a:pathLst>
              <a:path w="21600" h="1117530">
                <a:moveTo>
                  <a:pt x="10800" y="0"/>
                </a:moveTo>
                <a:arcTo wR="10800" hR="10800" stAng="16200000" swAng="-5400000"/>
                <a:lnTo>
                  <a:pt x="0" y="1106730"/>
                </a:lnTo>
                <a:arcTo wR="10800" hR="10800" stAng="10800000" swAng="-5400000"/>
                <a:lnTo>
                  <a:pt x="10800" y="111753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122560" y="7710480"/>
            <a:ext cx="2611440" cy="104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7" name=""/>
          <p:cNvSpPr/>
          <p:nvPr/>
        </p:nvSpPr>
        <p:spPr>
          <a:xfrm>
            <a:off x="3071880" y="7645320"/>
            <a:ext cx="71280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336400"/>
            <a:ext cx="5829120" cy="15238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4217-C3FB-4E8A-BAC3-E14DE79B9E98}" type="slidenum"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8001000"/>
          <a:ext cx="1143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0100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1557360"/>
            <a:ext cx="68580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ÚZEMNÍ ENERGETICKÁ KONCEPCE </a:t>
            </a:r>
            <a:endParaRPr b="0" lang="en-US" sz="32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OLOMOUCKÉHO KRAJE</a:t>
            </a:r>
            <a:endParaRPr b="0" lang="en-US" sz="32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64c"/>
                </a:solidFill>
                <a:latin typeface="Times New Roman"/>
              </a:rPr>
              <a:t>(souhrn)</a:t>
            </a:r>
            <a:endParaRPr b="0" lang="en-US" sz="28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7953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2b2b2"/>
                </a:solidFill>
                <a:latin typeface="Times New Roman"/>
              </a:rPr>
              <a:t>CITYPLAN spol. s r.o. Odborů 4, 120 00 Praha 2 tel.:224 922 989             fax: 224 922 072</a:t>
            </a:r>
            <a:endParaRPr b="0" lang="en-US" sz="18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876240" y="5334120"/>
            <a:ext cx="5105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264c"/>
                </a:solidFill>
                <a:uFillTx/>
                <a:latin typeface="Times New Roman"/>
              </a:rPr>
              <a:t>Zpracováno pro:</a:t>
            </a: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Olomoucký kraj</a:t>
            </a:r>
            <a:endParaRPr b="0" lang="en-US" sz="20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Jeremenkova 40a</a:t>
            </a:r>
            <a:endParaRPr b="0" lang="en-US" sz="20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779 11 Olomouc</a:t>
            </a:r>
            <a:endParaRPr b="0" lang="en-US" sz="20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8018640"/>
            <a:ext cx="28195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264c"/>
                </a:solidFill>
                <a:latin typeface="Times New Roman"/>
              </a:rPr>
              <a:t>ViP s.r.o.                                Lazarská 7, 110 00 Praha 1</a:t>
            </a:r>
            <a:endParaRPr b="0" lang="en-US" sz="1400" spc="-1" strike="noStrike">
              <a:solidFill>
                <a:srgbClr val="00264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264c"/>
                </a:solidFill>
                <a:latin typeface="Times New Roman"/>
              </a:rPr>
              <a:t>REA Kladno, s.r.o.           Ocelárenská 1777, 272 01 KLadno</a:t>
            </a:r>
            <a:endParaRPr b="0" lang="en-US" sz="1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71629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264c"/>
                </a:solidFill>
                <a:uFillTx/>
                <a:latin typeface="Times New Roman"/>
              </a:rPr>
              <a:t>Zpracovatelé:</a:t>
            </a:r>
            <a:endParaRPr b="0" lang="en-US" sz="2000" spc="-1" strike="noStrike">
              <a:solidFill>
                <a:srgbClr val="00264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9:34:09Z</dcterms:created>
  <dc:creator>Jarka Machová</dc:creator>
  <dc:description/>
  <dc:language>en-US</dc:language>
  <cp:lastModifiedBy>Jakub Schmiedhuber</cp:lastModifiedBy>
  <dcterms:modified xsi:type="dcterms:W3CDTF">2003-12-12T12:19:06Z</dcterms:modified>
  <cp:revision>85</cp:revision>
  <dc:subject/>
  <dc:title>                    CITY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PSDescription">
    <vt:lpwstr/>
  </property>
  <property fmtid="{D5CDD505-2E9C-101B-9397-08002B2CF9AE}" pid="3" name="Status">
    <vt:lpwstr/>
  </property>
</Properties>
</file>