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CD9-5A7A-4D4E-91C0-314EA63F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868-A48B-4D8B-8423-FCBDE7E4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122-23C3-4A7E-B80A-B5ABFF21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698-0E1C-4F23-9C2D-D31E88A5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278A-CC29-4703-8DCA-69618154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F0CA-4730-4CE5-9E98-9C8ACCF7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4CF7-60E5-479E-8EE1-D0791774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EA5D-F0B7-429D-82C0-66F0D8C8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B58D-130A-46B0-8B16-1775D0A8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C35A-2B7E-4BD0-8315-3261986D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90F9-1C8C-4675-92B5-481B04BB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96E-8B19-4887-84D4-35DD189D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41C7-5CA6-4201-91D8-29F0CEF9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0BCA-6178-42E3-8E60-FD8B13B4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969F-A4F1-400F-B730-E65E327E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138F-2439-4B75-AD3F-3420F873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A0AD-085D-4281-9509-1B53875D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4CE-1576-40FD-B711-0E498D2C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B24-EC1A-41A2-B52B-1A061C56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F72-E138-46A3-ACC2-7783E26E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ED3-8EAB-439D-A7BE-950094E5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6EF-C0E2-4111-9438-C6128B26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A94-9506-47C2-9252-8B25EC2C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08A-6054-4ACB-846C-C9EADD10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8C6E-A81D-4A0A-A06C-D549F3E8EED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5A7D-D4F0-49BB-A515-907AA83A6B4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portovní hry seniorů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4969080" cy="6408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isciplíny byly sestaveny tak, aby se sportovních her mohli zúčastnit i handicapovaní spoluobčané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8480" y="1600200"/>
            <a:ext cx="2816280" cy="4530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002200" y="1752480"/>
            <a:ext cx="3328920" cy="4224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33744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Závě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 naší péči se snažíme osvojit realistický, pozitivní a humanistický pohled založený na hlubokém respektování každého, kdo se na nás obrátí o pomoc, nebo komu pomoc nabízí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Kondiční cvičení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lo první aktivitou v CSSP Chrudim(běží od roku 199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ýchodiskem hodin musí být to, co klient ještě, nebo co už opět zvlá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ní léčebnou terapií, ale jen preventivní činností k podpoře mobility a zdra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62560" y="203688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Znaky hodin tělocviku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ěšení mít radost z pohybu –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usí být příjemné to dělat, musí se vytvořit pocit bezpečí, vše musí být v rámci možností klient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ostatnost –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chat vyniknout každého, věnovat pozornost fungování, vyžadovat vlastní přínos a podporovat iniciati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iální styk –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ožít věci společně, dělat věci společně, akceptovat jeden druhého,pociťovat svornost s celou skupin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íl pohybových hod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hyblivo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volně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vědomění si těl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bratno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ient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iferenciace klientů při kondičním cvičení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777080" cy="4896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Klient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bilní –proškolená cvičitelka z řad senior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vičí ve stoje, vsedě, vlež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vičí na míčí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házejí do bazénu a cvičí ve vod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arší méně mobilní – cvičí se zdravotní sestro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vičení probíhá na židlí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vičení se zaměřuje i na správnost pohybu v jednotlivých situací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697800" cy="46818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ortovní hry seniorů - cí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sílení pohybových schopností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vázání nových přátelstv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lepšení celkového tělesného ale i duševního zdrav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8:33:51Z</dcterms:created>
  <dc:creator>Vranova</dc:creator>
  <dc:description/>
  <dc:language>en-US</dc:language>
  <cp:lastModifiedBy>Vranova</cp:lastModifiedBy>
  <dcterms:modified xsi:type="dcterms:W3CDTF">2005-02-02T08:35:02Z</dcterms:modified>
  <cp:revision>1</cp:revision>
  <dc:subject/>
  <dc:title>Sportovní hry seniorů</dc:title>
</cp:coreProperties>
</file>